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4-2 Up/Down/Right/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2436-5724-47AA-AD87-B536C649A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言語的教室活動案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　　　　　　　　　資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L4-2 Up/Down/Right/Le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pictures are from Minnano Kyozai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974-51AC-431A-B4D7-C130F01F9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2991-3882-422D-8EBF-72DD1B33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E5F1-3E03-4F66-B53E-0E8182BF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E070-239F-45F7-B91A-2FC6022B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65AC-43CD-40C2-BC11-B2DA9DFF1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88A4-8CF6-47FB-92B5-F1B7472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533-9682-4A19-9542-997719D9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8A67-0A0F-4721-9A65-81828284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991-2A91-43A0-9DE3-2AE36F8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DF43-7276-48F3-9FF8-3A5016C7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561B-522A-425D-B20E-4F67C7B8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3D87-C735-470C-9FB0-1E4D350D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D84BE-103D-4834-A0FF-65768441A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3"/>
          <p:cNvGrpSpPr/>
          <p:nvPr/>
        </p:nvGrpSpPr>
        <p:grpSpPr>
          <a:xfrm>
            <a:off x="2556000" y="3141720"/>
            <a:ext cx="3417840" cy="2695680"/>
            <a:chOff x="2556000" y="3141720"/>
            <a:chExt cx="3417840" cy="2695680"/>
          </a:xfrm>
        </p:grpSpPr>
        <p:pic>
          <p:nvPicPr>
            <p:cNvPr id="50" name="Picture 10" descr=""/>
            <p:cNvPicPr/>
            <p:nvPr/>
          </p:nvPicPr>
          <p:blipFill>
            <a:blip r:embed="rId1"/>
            <a:stretch/>
          </p:blipFill>
          <p:spPr>
            <a:xfrm>
              <a:off x="2556000" y="3141720"/>
              <a:ext cx="3417840" cy="26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1"/>
            <p:cNvSpPr/>
            <p:nvPr/>
          </p:nvSpPr>
          <p:spPr>
            <a:xfrm>
              <a:off x="3203640" y="35733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800080"/>
                  </a:solidFill>
                  <a:latin typeface="Arial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12"/>
            <p:cNvSpPr/>
            <p:nvPr/>
          </p:nvSpPr>
          <p:spPr>
            <a:xfrm>
              <a:off x="4788000" y="3573360"/>
              <a:ext cx="72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3600" spc="-1" strike="noStrike">
                  <a:solidFill>
                    <a:srgbClr val="009999"/>
                  </a:solidFill>
                  <a:latin typeface="Arial"/>
                </a:rPr>
                <a:t>！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p and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5940360" y="1628640"/>
            <a:ext cx="122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5940360" y="5445000"/>
            <a:ext cx="194472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7164360" y="1628640"/>
            <a:ext cx="503280" cy="1152720"/>
          </a:xfrm>
          <a:prstGeom prst="upArrow">
            <a:avLst>
              <a:gd name="adj1" fmla="val 50000"/>
              <a:gd name="adj2" fmla="val 572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8"/>
          <p:cNvSpPr/>
          <p:nvPr/>
        </p:nvSpPr>
        <p:spPr>
          <a:xfrm>
            <a:off x="7667640" y="4869000"/>
            <a:ext cx="576360" cy="115236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7d5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1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584440" cy="3889440"/>
          </a:xfrm>
          <a:prstGeom prst="rect">
            <a:avLst/>
          </a:prstGeom>
          <a:ln w="0">
            <a:noFill/>
          </a:ln>
        </p:spPr>
      </p:pic>
      <p:pic>
        <p:nvPicPr>
          <p:cNvPr id="59" name="MSSN302.wav" descr=""/>
          <p:cNvPicPr/>
          <p:nvPr/>
        </p:nvPicPr>
        <p:blipFill>
          <a:blip r:embed="rId2"/>
          <a:stretch/>
        </p:blipFill>
        <p:spPr>
          <a:xfrm>
            <a:off x="665964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9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ft and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5229360"/>
            <a:ext cx="163188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7308720" y="5084640"/>
            <a:ext cx="12240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/>
          <a:stretch/>
        </p:blipFill>
        <p:spPr>
          <a:xfrm>
            <a:off x="3348000" y="1484280"/>
            <a:ext cx="2408400" cy="4857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1511280" cy="1451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7164360" y="3429000"/>
            <a:ext cx="1511280" cy="1450800"/>
          </a:xfrm>
          <a:prstGeom prst="rect">
            <a:avLst/>
          </a:prstGeom>
          <a:ln w="0">
            <a:noFill/>
          </a:ln>
        </p:spPr>
      </p:pic>
      <p:pic>
        <p:nvPicPr>
          <p:cNvPr id="66" name="MSj0302.wav" descr=""/>
          <p:cNvPicPr/>
          <p:nvPr/>
        </p:nvPicPr>
        <p:blipFill>
          <a:blip r:embed="rId4"/>
          <a:stretch/>
        </p:blipFill>
        <p:spPr>
          <a:xfrm>
            <a:off x="53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48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7:07:20Z</dcterms:created>
  <dc:creator>h.tanaka</dc:creator>
  <dc:description/>
  <dc:language>en-US</dc:language>
  <cp:lastModifiedBy>Hiroko Tanaka</cp:lastModifiedBy>
  <cp:lastPrinted>2013-10-02T10:28:38Z</cp:lastPrinted>
  <dcterms:modified xsi:type="dcterms:W3CDTF">2014-07-31T17:56:20Z</dcterms:modified>
  <cp:revision>25</cp:revision>
  <dc:subject/>
  <dc:title>Preposition</dc:title>
</cp:coreProperties>
</file>